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wmf" ContentType="image/x-wmf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706B4-DB35-4362-8336-1200E6D02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2A52E-B330-449B-BA8D-34C69C92E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C476D-A0B4-40E4-8F7B-27BA44DF4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0C030-E25B-44D4-921D-384E4543C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D5667-2E91-46C1-905D-5CE627FE0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1A256-0C44-4243-8ED3-EF49DCF9F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6A163-25DA-4EA7-A7A3-ECE1DD12D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7D12F-3BF8-4144-9B5B-225B5410B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22723-80AF-4943-8B3C-2E8E77B55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D25A2-D7DC-4BCA-BD5F-D8C7C8CE6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BDA38-30A5-4F06-AF92-6615083CD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4680C-BBB9-4B56-9EBF-FBABA66C8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62BF7-3F5C-4FED-AC91-F76F1122F6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asianart.com/exhibitions/shandong/7.html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rds.yahoo.com/_ylt=A0PDoTBxbZpNSjUAHemjzbkF/SIG=12kihb054/EXP=1301994993/**http%3A//www.shen-nong.com/eng/images/history/qinhan/img_chun1.jpg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Qin and the Qin Dynas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85800" y="1143000"/>
            <a:ext cx="4114800" cy="29131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5486400" y="1371600"/>
            <a:ext cx="3178080" cy="51814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685800" y="4191120"/>
            <a:ext cx="41148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UNITING CHI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04920" y="1523880"/>
            <a:ext cx="86868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in was King of a state in 246 BCE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d a strong army of foot soldiers, archers, chariots of  600,000 m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quers all of the other Chinese states by 221 BCE and declares himself emper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 uses spies, bribes, and alliances along with melting down rivals weapons into bells to get and keep 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ds feudalism and forces 120,000 ex-nobles to move to the capital, Xianyang, so he could keep an eye on them since they had the real power before hi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s a bureaucracy of 36 commandries which are ruled by 3 offici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vil governor – laws and far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litary governor – arm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erial overseer – kept an eye on the other two offici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commandery is divided into counties overseen by a jud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enforce the la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6870600" y="3789360"/>
            <a:ext cx="2273400" cy="29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>
            <a:hlinkClick r:id="rId1"/>
          </p:cNvPr>
          <p:cNvPicPr/>
          <p:nvPr/>
        </p:nvPicPr>
        <p:blipFill>
          <a:blip r:embed="rId2">
            <a:lum bright="20000"/>
          </a:blip>
          <a:stretch/>
        </p:blipFill>
        <p:spPr>
          <a:xfrm>
            <a:off x="2209680" y="4191120"/>
            <a:ext cx="4334040" cy="3120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TANDARDIZING CHINA’S CULT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1523880"/>
            <a:ext cx="83818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ina’s culture differed from region to region before Q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in standardizes China’s cul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ing system consisted of a dictionary of 3,300 characters which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d commun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6 was the basis of all measurement and measuring cup w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iz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e coin called a banliang was used as curr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in was a legalist so he created a system of laws and everyone was treated the same with both rewards and punishment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nishments = fines, beheadings, forced labor, whipped, amputations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ilt a network of roads to inspect his emp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ONFLICTS WITH SCHOL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5800" y="1295280"/>
            <a:ext cx="80773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in conflicted with Confucian scholars because his reforms went against Confucianism's belie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fucianists believed a ruler’s good behavior would make the people behave and you must honor past trad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in as a legalist believed that people were evil and needed strict laws and harsh punishments to behave and he rejected the past and devoted himself to new ideas and metho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rned almost all of the Confucian books and forbade public teaching of Confuciani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ecuted over 460 Confucian scholars for plotting against him and had them buried alive or behead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s own son was punished for sticking up for the schol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View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191120" y="4738680"/>
            <a:ext cx="3352680" cy="21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BUILDING THE W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295280"/>
            <a:ext cx="89154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in built many public works projects (roads, water canals, Great Wall) b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cing hundreds of thousands of his people to build th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ed and extended what was already started as the Great Wall acros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types of terrains and wea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d this to prevent invasion and discourage esc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took at least 300,000 workers (soldiers, peasants, govt. officials, criminal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ns of thousands died building The Wall and were buried in it making it “th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ngest graveyard in the world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Wall is over 1500 miles long, made of stone, brick, and dir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erage height = 25 ft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erage thickness = 15-30 f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did not fill it’s purpose but still is considered an awesome achiev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666880" y="4572000"/>
            <a:ext cx="3819600" cy="20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MPEROR’S DEATH and BURI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1066680"/>
            <a:ext cx="8686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in was unhappy and scared of death and wanted to live foreve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immortalit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s told to hide from evil spirits so in his 270 palaces he had secre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ssages built in and between th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ed in 210 BCE at age 49, poisoned by drinking potions that were to giv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m immort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s death was kept a secret until his body was returned to the capi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s laid to rest in a magnificent tomb that was started when he was 1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covered 8 sq. miles and took 700,000 workers to make, workers wer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ried alive with Qin so no stealing would take pl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tomb contains the terra cotta army (clay soldiers), city of bronze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rcury rivers and seas, jewels, rare objects, tools and tra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The Terra Cotta Army is located east of Emperor Qin's Mausoleum, serving as guardians to protect the entrance of the Emperor's burial…"/>
          <p:cNvPicPr/>
          <p:nvPr/>
        </p:nvPicPr>
        <p:blipFill>
          <a:blip r:embed="rId1"/>
          <a:stretch/>
        </p:blipFill>
        <p:spPr>
          <a:xfrm>
            <a:off x="2590920" y="4570560"/>
            <a:ext cx="3886200" cy="22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5T00:49:39Z</dcterms:created>
  <dc:creator>gehadde</dc:creator>
  <dc:description/>
  <dc:language>en-US</dc:language>
  <cp:lastModifiedBy>gehadde</cp:lastModifiedBy>
  <dcterms:modified xsi:type="dcterms:W3CDTF">2012-03-22T17:57:20Z</dcterms:modified>
  <cp:revision>22</cp:revision>
  <dc:subject/>
  <dc:title>Warm-Up:  #6</dc:title>
</cp:coreProperties>
</file>